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F9B-3FDC-499B-BE17-86B069B2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B71-CAE8-4DF5-87BC-C834908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442-A7A8-48FB-8AB9-8BB29A39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5EA-F280-4A7C-AE56-86EF93B4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9286-EF30-413C-9B46-D22EDA5C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FED-7AC3-4FC9-ACE9-5DD90289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CE86-DB43-4B32-B740-8ACF002E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5C9E-0317-4ED4-A729-38F82C1E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A812-C045-4FC4-AC95-2C5A6ADB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82B7-1AA8-45ED-8239-86317472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1A74-602B-4F08-9A3A-5D3A7BB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BB7-1F90-4507-88E0-BA4443F3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D71F-E0C5-42D1-8E73-D1B5581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8D37-6329-4E05-824B-50C2E6C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E09E-23A7-4151-BCC2-EE994795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985B-DBF5-459A-B95F-9343BEDC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75ED-CC74-44ED-84A4-F4C97A0C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39C-5ABB-48F3-9E9B-39923D0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29A-4C66-46E4-B7F8-C5038071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25B-A5E0-439D-A776-D4596062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0F7-589B-4E66-A67C-4D7D3B56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6FB-4007-4D76-AEFB-6BB27FC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D9A-08A9-485B-AC28-244AD4B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A38-F75A-4F36-89A6-289C5D9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507-8AAA-4B13-A90C-07E4D44DB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C085-F2C0-4814-9D79-C1D20BA32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ontext Clu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rade 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plant that grows on tre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he trees had fuzzy green moss all over them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 is a plant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Jane threw her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lariat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to rope the baby cow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ari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wbo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ong rope with a loop on on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long rope with a loop on one e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o rope the baby cow” tell that 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riat is a long rop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ogs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nippe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t the cows’ heels with their teeth to move them along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ipp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rk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app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napp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nipped at the cows’ heels with their teeth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ipped mean snapp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mother cows looked over their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calve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to make sure they were safe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l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ng c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i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young cow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mother cows looked over their calves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alves are young cow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statement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showed us how much money we had in the bank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tate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redit ca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iece of pap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piece of paper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showed how much money we had in the bank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 statement is a piece of paper with informati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membe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 the other word clues in the sentences to figure out what a word mea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ues in a sentence can tell you the meaning of a new word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a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 liquid that moves inside a tree and brings food to the leaves and branch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sentence above, the words “a liquid that moves inside a tree and brings food to the leaves and branches” tell you w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a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059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We took a walk in the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forest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. There were trees as far as we could see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here were trees as far as we could see” tell us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 forest is a place with many tre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059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d showed us an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ancien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redwood tree. He said it was very, very old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very, very old” tell us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ci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eans very, very ol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Now you try one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ldest tree was thre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ous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years old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ous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g numb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mall n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 big number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s “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ree thousand years old”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ell us tha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ousand means a big numbe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n the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swamp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, the water came up to our knees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wam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ocky pla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wet pl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 wet plac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s “the water came up to our knees” tell us tha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 swamp is a wet pl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ome of the trees had fuzzy green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moss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ll over them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g anim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lant that grows on tre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3:33:35Z</dcterms:created>
  <dc:creator>cooperb</dc:creator>
  <dc:description/>
  <dc:language>en-US</dc:language>
  <cp:lastModifiedBy>teacher</cp:lastModifiedBy>
  <dcterms:modified xsi:type="dcterms:W3CDTF">2011-01-07T22:15:54Z</dcterms:modified>
  <cp:revision>3</cp:revision>
  <dc:subject/>
  <dc:title>Context Clues</dc:title>
</cp:coreProperties>
</file>